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DE7D-C2A7-41BE-A3A2-FBCE6DEC1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CEF8-B52C-4862-AE6E-B06130E8C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9C1D-A458-443F-A3A0-EA50AC4EE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6A99-09EA-452A-BE52-D3EF0E4BD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C484D-233F-4B7B-95D2-6C90E7E16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0AC12-97E0-4BC0-A476-7244E69EF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F34F3-B923-494E-B2CE-42AB1AEB4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9B31F-CC13-4909-ABA8-310BAE0F0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DC172-502C-4474-84F5-43507E44B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E8512-48F3-4EEC-A1AD-2ABCBF20D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0AAF3-8522-4254-A085-28236847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CB5D-3A8A-405D-9383-D55E4B12B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8FF7C-9CA1-446E-A8A1-06D5A8EB0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2E20F-E2B8-4E7E-AE8A-CC5A4BA53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FB616-CA81-486D-BB35-438C00227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9073F-97A3-47AB-A8FE-56B0E8987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FF062-E126-400A-974C-9AEE3D3A7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7E0B1-0D2B-42DB-A0DA-E4AE1F292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42A1E-389E-4C97-AF04-945932C4E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161C5-49B0-4379-BE1D-466B869F8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C0FD9-4286-4F0E-AD71-087997E65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EEFD1-76BD-4B0C-B0EC-A455D1BDB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748A-91EB-4CF4-811B-F0D454A5B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650A0-7945-4C1B-BE86-FF35A1A4F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FBB67-5120-4B2D-94E4-4CD49AE4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02337-2AD0-4270-A029-A6691119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5D1BE-B314-494D-87BF-24378B1C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F04FE-E6DB-4C32-AE25-D9B3655F6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68FA3-8083-4454-912E-5F5DAED8F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ED9D3-B4AC-45E6-A0E6-6874E7057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D3DC0-3702-4129-AA5E-95C5F0C51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E46FE-7898-4F83-A137-099D5DAF6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D13A9-82F2-49FC-8479-6C2F9FA88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6BA6-AD87-4292-8C1A-62D51D7C1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7251C-5C58-4F33-BCAB-525CD3E40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0F27B-D727-4D8D-856B-91F49458F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99DDD-0700-42AA-A0CA-DDEF06F99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DD56F-5E7A-451F-BB07-FE0D8B7D3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20588-0498-432F-8D74-C208C5E3D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4B222-F3E5-4FAC-B00D-AB86B02B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ACB49-D2C4-473E-846B-7DAD1C56A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A9331-706C-46AA-A4B2-D147A05B6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89861-CF01-483A-B7A1-3E3D32EC5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ED0062-FDC7-41A1-AB8E-50A4A0766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09CE-8C02-4E25-94AD-A3F105D17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0E0EE5-3AC2-4ED4-B6B3-11B8E0F0F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40E2D-C24B-4356-8873-04D4B5395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FF4DD5-BBE7-4AA3-9162-797C1835D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27FA8F-3C63-4089-B5DB-3689308FC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4A4D83-845B-4426-A31F-F89F6DBB5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DBA5E4-7AA0-4CD8-B105-80D26906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3702F-76BA-4A9F-BBA0-AF026DF1B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248A3-70CF-4184-8B75-653825B3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7F0F8-4AD9-4E8F-AD9C-951D220F6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87E02-16B0-40EB-9A31-11E7D21CC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4757-6451-4AFF-8E87-EA3616C33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34C769-CA5F-4C2E-A219-948C9FC32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B335-9336-4CA6-B8CB-E3E95FC5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892F-DE45-4D76-9DE4-C47917E47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404D-CFD1-4B7B-BEB1-722BDA76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8c6a"/>
            </a:gs>
            <a:gs pos="100000">
              <a:srgbClr val="fbe0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8 Dikdörtgen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7 Yuvarlatılmış Dikdörtgen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CCE49-F559-4EA3-B694-6701678B4823}" type="slidenum">
              <a:rPr b="0" lang="tr-T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8c6a"/>
            </a:gs>
            <a:gs pos="100000">
              <a:srgbClr val="fbe0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8 Dikdörtgen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7 Yuvarlatılmış Dikdörtgen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9 Dikdörtgen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10 Yuvarlatılmış Dikdörtgen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11 Dikdörtgen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14 Dikdörtgen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" name="15 Dikdörtgen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9BFF6-54BD-4D26-BD00-F8DE6633A996}" type="slidenum">
              <a:rPr b="0" lang="tr-T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8c6a"/>
            </a:gs>
            <a:gs pos="100000">
              <a:srgbClr val="fbe0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8 Dikdörtgen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2" name="7 Yuvarlatılmış Dikdörtgen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3" name="9 Dikdörtgen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4" name="10 Yuvarlatılmış Dikdörtgen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5" name="10 Yuvarlatılmış Dikdörtgen" descr=""/>
            <p:cNvPicPr/>
            <p:nvPr/>
          </p:nvPicPr>
          <p:blipFill>
            <a:blip r:embed="rId2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7" name="11 Dikdörtgen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14 Dikdörtgen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9" name="15 Dikdörtgen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4679F-AA06-4B0D-9492-083EDE16FCA3}" type="slidenum">
              <a:rPr b="0" lang="tr-T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8c6a"/>
            </a:gs>
            <a:gs pos="100000">
              <a:srgbClr val="fbe0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8 Dikdörtgen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2" name="7 Yuvarlatılmış Dikdörtgen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9 Dikdörtgen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4" name="10 Yuvarlatılmış Dikdörtgen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2ACB1-FD2F-44B1-9871-557FD19E6F9E}" type="slidenum">
              <a:rPr b="0" lang="tr-T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8c6a"/>
            </a:gs>
            <a:gs pos="100000">
              <a:srgbClr val="fbe0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8 Dikdörtgen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7 Yuvarlatılmış Dikdörtgen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8" name="9 Dikdörtgen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10 Dikdörtgen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0" name="11 Dikdörtgen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03DD3-B457-43DF-935E-490DEA4ED0D3}" type="slidenum">
              <a:rPr b="0" lang="tr-T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  <a:ea typeface="Arial"/>
              </a:rPr>
              <a:t>DÜZLEMDEKİ DOĞRULAR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d34817"/>
                </a:solidFill>
                <a:latin typeface="Arial"/>
                <a:ea typeface="Arial"/>
              </a:rPr>
              <a:t>3. Düzlemde Üç Doğrunun Birbirlerine Göre Durumları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Üç doğru paralel olabilir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   </a:t>
            </a: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d1 // d2 // d3            d1</a:t>
            </a:r>
            <a:r>
              <a:rPr b="0" lang="el-GR" sz="2600" spc="-1" strike="noStrike">
                <a:solidFill>
                  <a:srgbClr val="002060"/>
                </a:solidFill>
                <a:latin typeface="Arial"/>
                <a:ea typeface="Arial"/>
              </a:rPr>
              <a:t>∩</a:t>
            </a: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d2</a:t>
            </a:r>
            <a:r>
              <a:rPr b="0" lang="el-GR" sz="2600" spc="-1" strike="noStrike">
                <a:solidFill>
                  <a:srgbClr val="002060"/>
                </a:solidFill>
                <a:latin typeface="Arial"/>
                <a:ea typeface="Arial"/>
              </a:rPr>
              <a:t>∩</a:t>
            </a: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d3 = Ø</a:t>
            </a:r>
            <a:br>
              <a:rPr sz="2600"/>
            </a:b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      Düzlemde paralel olan iki doğrudan birine paralel olan doğru diğerine de paraleldir.</a:t>
            </a:r>
            <a:br>
              <a:rPr sz="2600"/>
            </a:b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d1 // d2 ve d2 // d3 ise d1 // d3 olur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6" name="3 Resim" descr="1111.jpg"/>
          <p:cNvPicPr/>
          <p:nvPr/>
        </p:nvPicPr>
        <p:blipFill>
          <a:blip r:embed="rId1"/>
          <a:stretch/>
        </p:blipFill>
        <p:spPr>
          <a:xfrm>
            <a:off x="2700360" y="3860640"/>
            <a:ext cx="3384360" cy="26323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914400" y="1447920"/>
            <a:ext cx="77724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Yalnız ikisi paralel ise, üçüncü doğru paralel doğruları birer noktada keser.</a:t>
            </a:r>
            <a:br>
              <a:rPr sz="2600"/>
            </a:b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l1 // l2</a:t>
            </a:r>
            <a:br>
              <a:rPr sz="2600"/>
            </a:b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l1 </a:t>
            </a:r>
            <a:r>
              <a:rPr b="0" lang="el-GR" sz="2600" spc="-1" strike="noStrike">
                <a:solidFill>
                  <a:srgbClr val="002060"/>
                </a:solidFill>
                <a:latin typeface="Arial"/>
                <a:ea typeface="Arial"/>
              </a:rPr>
              <a:t>∩ </a:t>
            </a: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l3 = {A}</a:t>
            </a:r>
            <a:br>
              <a:rPr sz="2600"/>
            </a:b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l2</a:t>
            </a:r>
            <a:r>
              <a:rPr b="0" lang="el-GR" sz="2600" spc="-1" strike="noStrike">
                <a:solidFill>
                  <a:srgbClr val="002060"/>
                </a:solidFill>
                <a:latin typeface="Arial"/>
                <a:ea typeface="Arial"/>
              </a:rPr>
              <a:t> ∩</a:t>
            </a: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 l3 = {B}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       </a:t>
            </a: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Düzlemde paralel iki doğrudan birini kesen bir doğru, diğerini de keser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9" name="3 Resim" descr="2222.jpg"/>
          <p:cNvPicPr/>
          <p:nvPr/>
        </p:nvPicPr>
        <p:blipFill>
          <a:blip r:embed="rId1"/>
          <a:stretch/>
        </p:blipFill>
        <p:spPr>
          <a:xfrm>
            <a:off x="4500720" y="2349360"/>
            <a:ext cx="4032000" cy="2936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Üç doğru bir noktada kesişebilir.</a:t>
            </a:r>
            <a:br>
              <a:rPr sz="2600"/>
            </a:b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k1</a:t>
            </a:r>
            <a:r>
              <a:rPr b="0" lang="el-GR" sz="2600" spc="-1" strike="noStrike">
                <a:solidFill>
                  <a:srgbClr val="002060"/>
                </a:solidFill>
                <a:latin typeface="Arial"/>
                <a:ea typeface="Arial"/>
              </a:rPr>
              <a:t> ∩</a:t>
            </a: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 k2</a:t>
            </a:r>
            <a:r>
              <a:rPr b="0" lang="el-GR" sz="2600" spc="-1" strike="noStrike">
                <a:solidFill>
                  <a:srgbClr val="002060"/>
                </a:solidFill>
                <a:latin typeface="Arial"/>
                <a:ea typeface="Arial"/>
              </a:rPr>
              <a:t> ∩ </a:t>
            </a: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k3 = {P}</a:t>
            </a:r>
            <a:br>
              <a:rPr sz="2600"/>
            </a:b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Üç doğru ikişer ikişer kesişebilir.</a:t>
            </a:r>
            <a:br>
              <a:rPr sz="2600"/>
            </a:b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t1</a:t>
            </a:r>
            <a:r>
              <a:rPr b="0" lang="el-GR" sz="2600" spc="-1" strike="noStrike">
                <a:solidFill>
                  <a:srgbClr val="002060"/>
                </a:solidFill>
                <a:latin typeface="Arial"/>
                <a:ea typeface="Arial"/>
              </a:rPr>
              <a:t>∩</a:t>
            </a: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t2 = {A}</a:t>
            </a:r>
            <a:br>
              <a:rPr sz="2600"/>
            </a:b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t1</a:t>
            </a:r>
            <a:r>
              <a:rPr b="0" lang="el-GR" sz="2600" spc="-1" strike="noStrike">
                <a:solidFill>
                  <a:srgbClr val="002060"/>
                </a:solidFill>
                <a:latin typeface="Arial"/>
                <a:ea typeface="Arial"/>
              </a:rPr>
              <a:t>∩</a:t>
            </a: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t3 = {B}</a:t>
            </a:r>
            <a:br>
              <a:rPr sz="2600"/>
            </a:b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t2</a:t>
            </a:r>
            <a:r>
              <a:rPr b="0" lang="el-GR" sz="2600" spc="-1" strike="noStrike">
                <a:solidFill>
                  <a:srgbClr val="002060"/>
                </a:solidFill>
                <a:latin typeface="Arial"/>
                <a:ea typeface="Arial"/>
              </a:rPr>
              <a:t>∩</a:t>
            </a: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t3 = {C}</a:t>
            </a:r>
            <a:br>
              <a:rPr sz="2600"/>
            </a:b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t1</a:t>
            </a:r>
            <a:r>
              <a:rPr b="0" lang="el-GR" sz="2600" spc="-1" strike="noStrike">
                <a:solidFill>
                  <a:srgbClr val="002060"/>
                </a:solidFill>
                <a:latin typeface="Arial"/>
                <a:ea typeface="Arial"/>
              </a:rPr>
              <a:t>∩</a:t>
            </a: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t2</a:t>
            </a:r>
            <a:r>
              <a:rPr b="0" lang="el-GR" sz="2600" spc="-1" strike="noStrike">
                <a:solidFill>
                  <a:srgbClr val="002060"/>
                </a:solidFill>
                <a:latin typeface="Arial"/>
                <a:ea typeface="Arial"/>
              </a:rPr>
              <a:t>∩</a:t>
            </a: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t3 = Ø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2" name="3 Resim" descr="222.gif"/>
          <p:cNvPicPr/>
          <p:nvPr/>
        </p:nvPicPr>
        <p:blipFill>
          <a:blip r:embed="rId1"/>
          <a:stretch/>
        </p:blipFill>
        <p:spPr>
          <a:xfrm>
            <a:off x="1619280" y="4437000"/>
            <a:ext cx="5935680" cy="1809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d34817"/>
                </a:solidFill>
                <a:latin typeface="Arial"/>
                <a:ea typeface="Arial"/>
              </a:rPr>
              <a:t>4.Düzlemde Nokta İle Doğrunun Durumları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914400" y="148392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Doğrunun üzerindeki bir noktadan geçen ve bu doğruya dik olan bir tek doğru çizilebilir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   </a:t>
            </a: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d2 doğrusu A'dan geçer ve d1 e diktir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Doğrunun dışındaki bir noktadan geçen ve bu doğruya dik olan bir tek doğru çizilebilir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   </a:t>
            </a: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d3 doğrusu B'den geçer ve d1 e diktir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 spd="slow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Doğrunun dışındaki bir noktadan geçen ve bu doğruya paralel olan bir tek doğru çizilebilir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   </a:t>
            </a: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l2 doğrusu A'dan geçer ve l1 ile paraleldir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7" name="3 Resim" descr="geo_152.gif"/>
          <p:cNvPicPr/>
          <p:nvPr/>
        </p:nvPicPr>
        <p:blipFill>
          <a:blip r:embed="rId1"/>
          <a:stretch/>
        </p:blipFill>
        <p:spPr>
          <a:xfrm>
            <a:off x="1116000" y="3500280"/>
            <a:ext cx="7128000" cy="20844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d34817"/>
                </a:solidFill>
                <a:latin typeface="Arial"/>
                <a:ea typeface="Arial"/>
              </a:rPr>
              <a:t>5. Doğruların Düzlemde Ayırdığı Bölge Sayısı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914400" y="1844640"/>
            <a:ext cx="777240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Genel olarak, n adet doğru bir düzlemi en az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   </a:t>
            </a: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(n + 1) bölgeye (paralellik hali), en fazla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2060"/>
                </a:solidFill>
                <a:latin typeface="Perpetua"/>
              </a:rPr>
              <a:t>                                                     </a:t>
            </a: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bölgeye ayırır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Perpetua"/>
              </a:rPr>
              <a:t>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0" name="3 Resim" descr="geo_153.gif"/>
          <p:cNvPicPr/>
          <p:nvPr/>
        </p:nvPicPr>
        <p:blipFill>
          <a:blip r:embed="rId1"/>
          <a:stretch/>
        </p:blipFill>
        <p:spPr>
          <a:xfrm>
            <a:off x="1835280" y="2997360"/>
            <a:ext cx="2592360" cy="1103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914400" y="1699920"/>
            <a:ext cx="77724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İki doğru, bir düzlemi en az 3 bölgeye, en fazla 4 bölgeye ayırır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3" name="3 Resim" descr="geo_154.gif"/>
          <p:cNvPicPr/>
          <p:nvPr/>
        </p:nvPicPr>
        <p:blipFill>
          <a:blip r:embed="rId1"/>
          <a:stretch/>
        </p:blipFill>
        <p:spPr>
          <a:xfrm>
            <a:off x="900000" y="3141720"/>
            <a:ext cx="7285320" cy="1757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914400" y="1773360"/>
            <a:ext cx="7772400" cy="42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Üç doğru, bir düzlemi en az 4 bölgeye, en fazla 7 bölgeye ayırır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6" name="3 Resim" descr="geo_155.gif"/>
          <p:cNvPicPr/>
          <p:nvPr/>
        </p:nvPicPr>
        <p:blipFill>
          <a:blip r:embed="rId1"/>
          <a:stretch/>
        </p:blipFill>
        <p:spPr>
          <a:xfrm>
            <a:off x="971640" y="3141720"/>
            <a:ext cx="7272360" cy="2217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914400" y="1628640"/>
            <a:ext cx="777240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Dört doğru, bir düzlemi en az 5 bölgeye, en fazla 11 bölgeye ayırır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9" name="3 Resim" descr="geo_156.gif"/>
          <p:cNvPicPr/>
          <p:nvPr/>
        </p:nvPicPr>
        <p:blipFill>
          <a:blip r:embed="rId1"/>
          <a:stretch/>
        </p:blipFill>
        <p:spPr>
          <a:xfrm>
            <a:off x="1258920" y="3035160"/>
            <a:ext cx="6553080" cy="22654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82" name="3 Dikdörtgen" descr=""/>
          <p:cNvPicPr/>
          <p:nvPr/>
        </p:nvPicPr>
        <p:blipFill>
          <a:blip r:embed="rId1"/>
          <a:stretch/>
        </p:blipFill>
        <p:spPr>
          <a:xfrm>
            <a:off x="2840040" y="4211640"/>
            <a:ext cx="5767560" cy="1658880"/>
          </a:xfrm>
          <a:prstGeom prst="rect">
            <a:avLst/>
          </a:prstGeom>
          <a:ln w="0">
            <a:noFill/>
          </a:ln>
        </p:spPr>
      </p:pic>
      <p:pic>
        <p:nvPicPr>
          <p:cNvPr id="283" name="4 Dikdörtgen" descr=""/>
          <p:cNvPicPr/>
          <p:nvPr/>
        </p:nvPicPr>
        <p:blipFill>
          <a:blip r:embed="rId2"/>
          <a:stretch/>
        </p:blipFill>
        <p:spPr>
          <a:xfrm>
            <a:off x="1255680" y="1816200"/>
            <a:ext cx="6993000" cy="1305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d34817"/>
                </a:solidFill>
                <a:latin typeface="Franklin Gothic Book"/>
              </a:rPr>
              <a:t>DOĞRU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İki ucuna ok işareti koyulmuş düz bir çizgi ile gösterilir. Doğru küçük harfle veya üzerindeki iki nokta ile gösterilir.</a:t>
            </a:r>
            <a:br>
              <a:rPr sz="2600"/>
            </a:br>
            <a:r>
              <a:rPr b="0" lang="tr-TR" sz="26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d »d doğrusu</a:t>
            </a: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 veya AB doğrusu diye okunur. Buradaki A ve B noktaları doğrunun birer elemanıdır.</a:t>
            </a:r>
            <a:br>
              <a:rPr sz="2600"/>
            </a:b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A</a:t>
            </a:r>
            <a:r>
              <a:rPr b="0" lang="el-GR" sz="2600" spc="-1" strike="noStrike">
                <a:solidFill>
                  <a:srgbClr val="002060"/>
                </a:solidFill>
                <a:latin typeface="Arial"/>
                <a:ea typeface="Arial"/>
              </a:rPr>
              <a:t>ϵ</a:t>
            </a: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d ve B</a:t>
            </a:r>
            <a:r>
              <a:rPr b="0" lang="el-GR" sz="2600" spc="-1" strike="noStrike">
                <a:solidFill>
                  <a:srgbClr val="002060"/>
                </a:solidFill>
                <a:latin typeface="Arial"/>
                <a:ea typeface="Arial"/>
              </a:rPr>
              <a:t>ϵ</a:t>
            </a: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d biçiminde yazılır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6" name="3 Resim" descr="geo_1528.gif"/>
          <p:cNvPicPr/>
          <p:nvPr/>
        </p:nvPicPr>
        <p:blipFill>
          <a:blip r:embed="rId1"/>
          <a:stretch/>
        </p:blipFill>
        <p:spPr>
          <a:xfrm>
            <a:off x="1547640" y="3141720"/>
            <a:ext cx="5554800" cy="593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914400" y="1773360"/>
            <a:ext cx="7772400" cy="42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Farklı iki noktadan bir tek doğru geçer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Farklı iki nokta bir tek doğru belirtir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   </a:t>
            </a: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Doğru bir boyutludur. Yani sadece uzunluk söz konusudur.</a:t>
            </a:r>
            <a:br>
              <a:rPr sz="2600"/>
            </a:br>
            <a:r>
              <a:rPr b="0" lang="tr-TR" sz="26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d34817"/>
                </a:solidFill>
                <a:latin typeface="Franklin Gothic Book"/>
              </a:rPr>
              <a:t>DÜZLEM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Uzunluğuna ve genişliğine doğru sonsuza uzayıp giden düz bir yüzeydir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         </a:t>
            </a: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Düzlem iki boyutludur. Sayfa üzerinde paralelkenar gibi gösterilebilir. Paralelkenarın köşesine harfle ismi yazılabilir.</a:t>
            </a:r>
            <a:br>
              <a:rPr sz="2600"/>
            </a:br>
            <a:r>
              <a:rPr b="0" lang="tr-TR" sz="26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-138240"/>
            <a:ext cx="77724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755640" y="692280"/>
            <a:ext cx="7772400" cy="54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2060"/>
                </a:solidFill>
                <a:latin typeface="Arial"/>
                <a:ea typeface="Arial"/>
              </a:rPr>
              <a:t>         </a:t>
            </a:r>
            <a:r>
              <a:rPr b="0" lang="tr-TR" sz="2200" spc="-1" strike="noStrike">
                <a:solidFill>
                  <a:srgbClr val="002060"/>
                </a:solidFill>
                <a:latin typeface="Arial"/>
                <a:ea typeface="Arial"/>
              </a:rPr>
              <a:t>Şekildeki düzlem E düzlemi diye isimlendirilir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2060"/>
                </a:solidFill>
                <a:latin typeface="Arial"/>
                <a:ea typeface="Arial"/>
              </a:rPr>
              <a:t>    </a:t>
            </a:r>
            <a:r>
              <a:rPr b="0" lang="tr-TR" sz="2200" spc="-1" strike="noStrike">
                <a:solidFill>
                  <a:srgbClr val="002060"/>
                </a:solidFill>
                <a:latin typeface="Arial"/>
                <a:ea typeface="Arial"/>
              </a:rPr>
              <a:t>Burada A, B ve C noktaları E düzlemi üzerindedir.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2060"/>
                </a:solidFill>
                <a:latin typeface="Arial"/>
                <a:ea typeface="Arial"/>
              </a:rPr>
              <a:t>    </a:t>
            </a:r>
            <a:r>
              <a:rPr b="0" lang="tr-TR" sz="2200" spc="-1" strike="noStrike">
                <a:solidFill>
                  <a:srgbClr val="002060"/>
                </a:solidFill>
                <a:latin typeface="Arial"/>
                <a:ea typeface="Arial"/>
              </a:rPr>
              <a:t>Dolayısıyla B ve C noktalarından geçen d doğrusu da E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2060"/>
                </a:solidFill>
                <a:latin typeface="Arial"/>
                <a:ea typeface="Arial"/>
              </a:rPr>
              <a:t>                                                            </a:t>
            </a:r>
            <a:r>
              <a:rPr b="0" lang="tr-TR" sz="2200" spc="-1" strike="noStrike">
                <a:solidFill>
                  <a:srgbClr val="002060"/>
                </a:solidFill>
                <a:latin typeface="Arial"/>
                <a:ea typeface="Arial"/>
              </a:rPr>
              <a:t>düzlemi üzerindedir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2060"/>
                </a:solidFill>
                <a:latin typeface="Arial"/>
                <a:ea typeface="Arial"/>
              </a:rPr>
              <a:t>A </a:t>
            </a:r>
            <a:r>
              <a:rPr b="0" lang="el-GR" sz="2200" spc="-1" strike="noStrike">
                <a:solidFill>
                  <a:srgbClr val="002060"/>
                </a:solidFill>
                <a:latin typeface="Arial"/>
                <a:ea typeface="Arial"/>
              </a:rPr>
              <a:t>ϵ</a:t>
            </a:r>
            <a:r>
              <a:rPr b="0" lang="tr-TR" sz="2200" spc="-1" strike="noStrike">
                <a:solidFill>
                  <a:srgbClr val="002060"/>
                </a:solidFill>
                <a:latin typeface="Arial"/>
                <a:ea typeface="Arial"/>
              </a:rPr>
              <a:t> E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2060"/>
                </a:solidFill>
                <a:latin typeface="Arial"/>
                <a:ea typeface="Arial"/>
              </a:rPr>
              <a:t>B </a:t>
            </a:r>
            <a:r>
              <a:rPr b="0" lang="el-GR" sz="2200" spc="-1" strike="noStrike">
                <a:solidFill>
                  <a:srgbClr val="002060"/>
                </a:solidFill>
                <a:latin typeface="Arial"/>
                <a:ea typeface="Arial"/>
              </a:rPr>
              <a:t>ϵ</a:t>
            </a:r>
            <a:r>
              <a:rPr b="0" lang="tr-TR" sz="2200" spc="-1" strike="noStrike">
                <a:solidFill>
                  <a:srgbClr val="002060"/>
                </a:solidFill>
                <a:latin typeface="Arial"/>
                <a:ea typeface="Arial"/>
              </a:rPr>
              <a:t> E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2060"/>
                </a:solidFill>
                <a:latin typeface="Arial"/>
                <a:ea typeface="Arial"/>
              </a:rPr>
              <a:t>C </a:t>
            </a:r>
            <a:r>
              <a:rPr b="0" lang="el-GR" sz="2200" spc="-1" strike="noStrike">
                <a:solidFill>
                  <a:srgbClr val="002060"/>
                </a:solidFill>
                <a:latin typeface="Arial"/>
                <a:ea typeface="Arial"/>
              </a:rPr>
              <a:t>ϵ</a:t>
            </a:r>
            <a:r>
              <a:rPr b="0" lang="tr-TR" sz="2200" spc="-1" strike="noStrike">
                <a:solidFill>
                  <a:srgbClr val="002060"/>
                </a:solidFill>
                <a:latin typeface="Arial"/>
                <a:ea typeface="Arial"/>
              </a:rPr>
              <a:t> E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2060"/>
                </a:solidFill>
                <a:latin typeface="Arial"/>
                <a:ea typeface="Arial"/>
              </a:rPr>
              <a:t>d </a:t>
            </a:r>
            <a:r>
              <a:rPr b="0" lang="el-GR" sz="2200" spc="-1" strike="noStrike">
                <a:solidFill>
                  <a:srgbClr val="002060"/>
                </a:solidFill>
                <a:latin typeface="Arial"/>
                <a:ea typeface="Arial"/>
              </a:rPr>
              <a:t>ϵ</a:t>
            </a:r>
            <a:r>
              <a:rPr b="0" lang="tr-TR" sz="2200" spc="-1" strike="noStrike">
                <a:solidFill>
                  <a:srgbClr val="002060"/>
                </a:solidFill>
                <a:latin typeface="Arial"/>
                <a:ea typeface="Arial"/>
              </a:rPr>
              <a:t> E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3" name="5 Resim" descr="geo_1529.gif"/>
          <p:cNvPicPr/>
          <p:nvPr/>
        </p:nvPicPr>
        <p:blipFill>
          <a:blip r:embed="rId1"/>
          <a:stretch/>
        </p:blipFill>
        <p:spPr>
          <a:xfrm>
            <a:off x="2268360" y="1989000"/>
            <a:ext cx="2884680" cy="1528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Aynı doğru üzerinde olmayan farklı üç nokta bir düzlem belirtir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Bir doğru ile, bu doğru üzerinde olmayan bir nokta, bir düzlem belirtir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Bir doğrunun farklı iki noktası bir düzlem üzerinde ise bu doğru (doğrunun bütün noktaları) bu düzlem üzerindedir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tr-TR" sz="3600" spc="-1" strike="noStrike">
                <a:solidFill>
                  <a:srgbClr val="d34817"/>
                </a:solidFill>
                <a:latin typeface="Arial"/>
                <a:ea typeface="Arial"/>
              </a:rPr>
              <a:t>1. Düzlemle Doğrunun Durumları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Bir doğru düzlemin ya üzerinde, ya dışındadır veya düzlemi bir noktada keser.</a:t>
            </a:r>
            <a:br>
              <a:rPr sz="2600"/>
            </a:b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d1</a:t>
            </a:r>
            <a:r>
              <a:rPr b="0" lang="el-GR" sz="2600" spc="-1" strike="noStrike">
                <a:solidFill>
                  <a:srgbClr val="002060"/>
                </a:solidFill>
                <a:latin typeface="Arial"/>
                <a:ea typeface="Arial"/>
              </a:rPr>
              <a:t>∩</a:t>
            </a: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a = d1  ;   d2</a:t>
            </a:r>
            <a:r>
              <a:rPr b="0" lang="el-GR" sz="2600" spc="-1" strike="noStrike">
                <a:solidFill>
                  <a:srgbClr val="002060"/>
                </a:solidFill>
                <a:latin typeface="Arial"/>
                <a:ea typeface="Arial"/>
              </a:rPr>
              <a:t>∩</a:t>
            </a: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a = Ø   ;  d </a:t>
            </a:r>
            <a:r>
              <a:rPr b="0" lang="el-GR" sz="2600" spc="-1" strike="noStrike">
                <a:solidFill>
                  <a:srgbClr val="002060"/>
                </a:solidFill>
                <a:latin typeface="Arial"/>
                <a:ea typeface="Arial"/>
              </a:rPr>
              <a:t>∩</a:t>
            </a: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b = {K}</a:t>
            </a:r>
            <a:br>
              <a:rPr sz="2600"/>
            </a:b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K noktası kesişen bir doğru ile bir düzlemin arakesitidir.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8" name="10 Resim" descr="geo_1530.gif"/>
          <p:cNvPicPr/>
          <p:nvPr/>
        </p:nvPicPr>
        <p:blipFill>
          <a:blip r:embed="rId1"/>
          <a:stretch/>
        </p:blipFill>
        <p:spPr>
          <a:xfrm>
            <a:off x="1908000" y="3573360"/>
            <a:ext cx="5313600" cy="2062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d34817"/>
                </a:solidFill>
                <a:latin typeface="Arial"/>
                <a:ea typeface="Arial"/>
              </a:rPr>
              <a:t>2. Düzlemde  İki Doğrunun Birbirine Göre Durumları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914400" y="1699920"/>
            <a:ext cx="77724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Paralel farklı iki doğru bir tek düzlem belirtir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Her paralel farklı iki doğrudan bir tek düzlem geçer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Kesişen farklı iki doğru bir tek düzlem belirtir. Her kesişen farklı iki doğrudan bir tek düzlem geçer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Bir düzlemde farklı iki doğru ya paraleldir, ya da bir noktada kesişirler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d1</a:t>
            </a:r>
            <a:r>
              <a:rPr b="0" lang="el-GR" sz="2600" spc="-1" strike="noStrike">
                <a:solidFill>
                  <a:srgbClr val="002060"/>
                </a:solidFill>
                <a:latin typeface="Arial"/>
                <a:ea typeface="Arial"/>
              </a:rPr>
              <a:t>∩</a:t>
            </a: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d2 = Ø</a:t>
            </a:r>
            <a:br>
              <a:rPr sz="2600"/>
            </a:b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 l1</a:t>
            </a:r>
            <a:r>
              <a:rPr b="0" lang="el-GR" sz="2600" spc="-1" strike="noStrike">
                <a:solidFill>
                  <a:srgbClr val="002060"/>
                </a:solidFill>
                <a:latin typeface="Arial"/>
                <a:ea typeface="Arial"/>
              </a:rPr>
              <a:t>∩</a:t>
            </a: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l2 = {A}</a:t>
            </a:r>
            <a:br>
              <a:rPr sz="2600"/>
            </a:b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   Üst üste çizilen çakışık doğrular bir tek doğru kabul edilir.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3" name="3 Resim" descr="geo_1531.gif"/>
          <p:cNvPicPr/>
          <p:nvPr/>
        </p:nvPicPr>
        <p:blipFill>
          <a:blip r:embed="rId1"/>
          <a:stretch/>
        </p:blipFill>
        <p:spPr>
          <a:xfrm>
            <a:off x="1332000" y="1916280"/>
            <a:ext cx="6265800" cy="1512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2T18:36:57Z</dcterms:created>
  <dc:creator>ugur</dc:creator>
  <dc:description/>
  <dc:language>en-US</dc:language>
  <cp:lastModifiedBy>uqur</cp:lastModifiedBy>
  <dcterms:modified xsi:type="dcterms:W3CDTF">2011-01-12T20:10:26Z</dcterms:modified>
  <cp:revision>34</cp:revision>
  <dc:subject/>
  <dc:title>DÜZLEMDEKİ DOĞRULAR</dc:title>
</cp:coreProperties>
</file>